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A6BF-0037-4EF1-B542-79D37193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0807-0003-4CAC-BF18-AB4793E8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2DD5-F48E-439E-A23C-F353988E7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4818-BE7C-4F8B-85D9-03534B160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B288-9406-445A-8B3E-4CF650A9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0138-2851-4C9C-8993-A8CE39C0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8123-833A-4CF4-AA3A-075BE2422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883A-AFBE-4272-8CE1-45137D37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5C1-9E12-4E6E-A22F-7AEEDBCB9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E749-8BCE-4843-9EC2-EACF08329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3353-5DEF-4E8A-B006-62A60B03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A3A9-5113-4E69-A0F6-DA9683E4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23D7E-2B49-4FC4-95EA-1F6F90FE5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rtical Throw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to show displaceme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chuak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way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098720" y="317484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1098720" y="317484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1098720" y="227340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1098720" y="317484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1098720" y="227340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098720" y="151128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1098720" y="317484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1098720" y="227340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1098720" y="151128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098720" y="90180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098720" y="317484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1098720" y="227340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1098720" y="151128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098720" y="90180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098720" y="49536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1098720" y="317484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098720" y="227340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1098720" y="151128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098720" y="90180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1098720" y="49536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098720" y="24120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098720" y="317484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1098720" y="227340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098720" y="151128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1098720" y="90180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1098720" y="49536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1098720" y="24120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1098720" y="17784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 the way dow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1073160" y="20304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073160" y="20304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073160" y="29196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1073160" y="20304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073160" y="29196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073160" y="58428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1073160" y="20304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073160" y="29196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073160" y="58428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1073160" y="104148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1073160" y="20304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073160" y="29196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1073160" y="58428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073160" y="104148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1073160" y="166356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073160" y="20304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073160" y="29196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1073160" y="58428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1073160" y="104148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1073160" y="166356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073160" y="238752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1073160" y="20304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1073160" y="29196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073160" y="58428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1073160" y="104148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1073160" y="166356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1073160" y="238752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073160" y="3213000"/>
            <a:ext cx="28065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2:19:30Z</dcterms:created>
  <dc:creator>chuakh</dc:creator>
  <dc:description/>
  <dc:language>en-US</dc:language>
  <cp:lastModifiedBy>chuakh</cp:lastModifiedBy>
  <dcterms:modified xsi:type="dcterms:W3CDTF">2010-04-11T13:50:09Z</dcterms:modified>
  <cp:revision>5</cp:revision>
  <dc:subject/>
  <dc:title>Photo Album</dc:title>
</cp:coreProperties>
</file>